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66804"/>
        <c:axId val="5431349"/>
      </c:barChart>
      <c:catAx>
        <c:axId val="15966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1349"/>
        <c:crosses val="autoZero"/>
        <c:auto val="1"/>
        <c:lblAlgn val="ctr"/>
        <c:lblOffset val="100"/>
        <c:noMultiLvlLbl val="0"/>
      </c:catAx>
      <c:valAx>
        <c:axId val="5431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66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3E7-8567-4A6A-95BD-60FC19AD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015-AD2A-427F-BD39-7CE32C5F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E5A-E91C-41E3-915B-4476DBB0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A59-741B-420E-A22B-7B654116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97B-1F14-4C5C-AFEE-2E10CB31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516-364B-4074-8EC4-C6E60376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D59-C0E2-454B-A6B8-3174CBA9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CF6-00DA-4098-B2AA-8B0D20CB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61C-FDB4-4DF8-9B2C-5F3DB600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6FD-D09D-460C-A333-A0FB6312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60A-9E67-4154-B0B9-8C74C008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882-DF77-4F8A-A11C-57C6416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0A5B7-1A2C-4F78-8003-674E9AE6A4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