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3851868"/>
        <c:axId val="75834324"/>
      </c:barChart>
      <c:catAx>
        <c:axId val="2385186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834324"/>
        <c:crosses val="autoZero"/>
        <c:auto val="1"/>
        <c:lblAlgn val="ctr"/>
        <c:lblOffset val="100"/>
        <c:noMultiLvlLbl val="0"/>
      </c:catAx>
      <c:valAx>
        <c:axId val="7583432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85186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7879-DDDD-46AC-A46E-5014E60F2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F804-BD87-44F3-9EFF-DD76444E7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9FBE-C7A5-49DB-8C6E-7CF7A604E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386B-49AD-4857-B891-8A1DF7663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FE00-D56E-4E51-8A6D-136E29739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AE68-85CE-46FA-81BC-2F59C61CB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77FA-495A-45D0-8974-BC564CF14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0455-B3D8-4DDC-946C-6C01213C5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34AF-F0CE-4930-8941-C626A907C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72E9-E1CF-4932-9C5B-C1365B0D3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5FD2-BDB1-4016-A846-30F5FF1D1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A78F-13FD-43CC-B27B-21682BC8C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2E36F3-0D59-4CA8-988F-F2B39138BA9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