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41808"/>
        <c:axId val="60825685"/>
      </c:barChart>
      <c:catAx>
        <c:axId val="84541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25685"/>
        <c:crosses val="autoZero"/>
        <c:auto val="1"/>
        <c:lblAlgn val="ctr"/>
        <c:lblOffset val="100"/>
        <c:noMultiLvlLbl val="0"/>
      </c:catAx>
      <c:valAx>
        <c:axId val="60825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41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995-8B6F-4B13-BEDA-60289556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989-EF70-41F4-BFCC-4D9A54DC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362-CDDF-4940-B097-D593AB43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11A-0C90-4196-90E8-3852E8FF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360-94CB-4669-9C7A-AD3D08A4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8B7-249D-4FF3-9477-E4D56A31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E10-C222-48A3-8BB6-9B2CAD2D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F68-8AB8-4D24-A4A4-024154CD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A17-B909-4F87-84BF-F8FC01DC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326-39E7-45D6-ACD5-9CF28D2A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A41-6919-40C8-A185-4F380680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DA8-44D7-4F6F-92CC-6512597F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3D52B-A5F2-406E-ACEB-3EA6F5126A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