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89971"/>
        <c:axId val="42226953"/>
      </c:barChart>
      <c:catAx>
        <c:axId val="72389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26953"/>
        <c:crosses val="autoZero"/>
        <c:auto val="1"/>
        <c:lblAlgn val="ctr"/>
        <c:lblOffset val="100"/>
        <c:noMultiLvlLbl val="0"/>
      </c:catAx>
      <c:valAx>
        <c:axId val="42226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89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7CD-564D-4451-B7DB-1C2F7B5A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BFC-E51E-44F5-8212-36BE5F68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656-5743-47CB-99C3-AFA5491E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CF1-324D-40B5-B269-182221F1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C95-6890-4E0F-9BDC-2C242417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82A-0E81-493C-9388-B5B1EEC7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31F-4D95-4062-A755-4AC4A61B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6A5-111D-4EA4-ADB7-E3EDBFB8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AFC-8856-4FB6-9300-BC3A6195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E71-0D34-4402-8250-C2E77E19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1D8-8003-4058-AA66-C7E7D408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807-CAC0-41ED-8692-5FF60632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10F47-6934-46ED-90AE-4156AB1F0C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