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75539"/>
        <c:axId val="45278462"/>
      </c:barChart>
      <c:catAx>
        <c:axId val="32375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78462"/>
        <c:crosses val="autoZero"/>
        <c:auto val="1"/>
        <c:lblAlgn val="ctr"/>
        <c:lblOffset val="100"/>
        <c:noMultiLvlLbl val="0"/>
      </c:catAx>
      <c:valAx>
        <c:axId val="45278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75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30B-22DB-46AF-ABE2-D0E33F5E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109-A25F-4602-BE29-D7DD3BCC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B88-E9DB-425A-8DAF-721325B8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E9D-BD24-4488-BAE1-457E2EBE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486-BE69-477A-9E70-6977119E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424-5EEE-4DDA-A9E5-BF1A0D22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93C-39F8-4AC2-82DA-6AED66CD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934-92AE-4E05-AF82-B4767D7B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F13-2645-498D-A21C-AF1F0153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4E2-0E96-4FD3-8A80-9F5CA77E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810-D526-45D0-8A10-BBEC6440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70B-F9EF-4CE1-A93B-6464C2F2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8CB7D-45FD-4463-A826-0A6A2978AE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