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84671"/>
        <c:axId val="65614393"/>
      </c:barChart>
      <c:catAx>
        <c:axId val="17084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4393"/>
        <c:crosses val="autoZero"/>
        <c:auto val="1"/>
        <c:lblAlgn val="ctr"/>
        <c:lblOffset val="100"/>
        <c:noMultiLvlLbl val="0"/>
      </c:catAx>
      <c:valAx>
        <c:axId val="65614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84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745-B5C4-42F5-B08C-9A6BDCC3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6BC-3A52-45A7-9B67-6857285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C01-6D7A-48C7-B20B-EC511170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F99-D39B-4117-B777-12D0D595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937-2DB3-4908-9470-4F6F017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1E9-97BC-48FB-BFD8-5DC1CD28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4AE-1A79-4FC1-A8D9-554435E6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A13-0BF0-4985-8DD4-A961665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F9D-5544-494C-B674-A65AB48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4CD-92DF-4C6F-A806-A4AD551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AEB-940A-47B4-920F-15318CE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16A-4621-4DF5-A0B3-7884E45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22DD-C857-4D9E-9DA0-3D62FB7CBC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