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83201"/>
        <c:axId val="54932409"/>
      </c:barChart>
      <c:catAx>
        <c:axId val="92783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32409"/>
        <c:crosses val="autoZero"/>
        <c:auto val="1"/>
        <c:lblAlgn val="ctr"/>
        <c:lblOffset val="100"/>
        <c:noMultiLvlLbl val="0"/>
      </c:catAx>
      <c:valAx>
        <c:axId val="54932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3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895-DA56-4297-B104-41975C1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BDF-90FD-442A-8958-F2C50E75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7E1-5678-48ED-AC02-D4467826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13F-BC4F-46D4-8E87-238DA98C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A1B-183F-4F41-A4FC-E524335B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363-5BA8-447D-A7B5-49D26A7F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F47-1485-4B29-ADC9-AFA98CEC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DE0-CA1C-4A6C-BEFA-9E5E2783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A49-A743-4829-A3F3-4587E0A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F64-B711-45FE-8C53-005B92CB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D25-C9DC-4D69-9E0D-27AC80DC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3E1-236E-40C7-8FA9-37AE63F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7FB85-BA0A-4AC4-B0A2-32244CB20B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