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16255"/>
        <c:axId val="96638655"/>
      </c:barChart>
      <c:catAx>
        <c:axId val="332162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38655"/>
        <c:crosses val="autoZero"/>
        <c:auto val="1"/>
        <c:lblAlgn val="ctr"/>
        <c:lblOffset val="100"/>
        <c:noMultiLvlLbl val="0"/>
      </c:catAx>
      <c:valAx>
        <c:axId val="96638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162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084-F371-445A-83A4-68080254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AA6-12B9-4A04-9DCA-28D29844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DBC-2799-4762-A628-96F60309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30C5-BE09-4BE4-B726-28817CF6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B53-FE81-4870-8929-0BB9593E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97C-ACC2-45CA-92C5-8B276977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C7F-9A79-4E3E-89BF-382A7036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81D-BAC6-4DDE-9534-D0DDF293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BB2-7FB1-4F69-BF6C-4C3EDD9A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0C5-3D50-4CE1-8E76-0A86ADF1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BB9-03FA-4862-8065-E97AC10F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4B9-740D-4829-8D95-C8C105CC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40226-12BD-4076-82AE-F7E1B704FC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