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28271"/>
        <c:axId val="374792"/>
      </c:barChart>
      <c:catAx>
        <c:axId val="903282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792"/>
        <c:crosses val="autoZero"/>
        <c:auto val="1"/>
        <c:lblAlgn val="ctr"/>
        <c:lblOffset val="100"/>
        <c:noMultiLvlLbl val="0"/>
      </c:catAx>
      <c:valAx>
        <c:axId val="3747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282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8D45-379D-425D-8A54-C7C8672B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B5A-77B5-4C08-8601-8C5E5648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B59D-8E23-4106-82E9-246FD37D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D666-0426-4CD4-A20A-15E6B9D0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2DAE-42E9-47A1-9CA6-00FD01CD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BBD1-AF82-41CB-ADF2-81DBBEFE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A379-9837-4448-9D5C-CACBCD3E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96E-3201-415D-8527-9926EAEE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E8FE-1C6C-4B71-A263-0F1B8CD1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AA2-DF6B-4213-91C1-D04D558B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0B1-3426-43FE-86B6-BEAAB39C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2CA-2EA9-4560-80E2-713A0BA8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6C015-4513-458E-8BCA-E93BA71A9A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